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685-8C4B-4135-AFDC-F0D1C030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187-8BBF-4530-983E-6A083DB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B43-3845-48C0-9EC2-C03581FA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030-0F2A-4508-BEB6-48F6050C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0E4-7F76-4093-A380-B56893E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6CA-E11F-4E56-8DA0-749F006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98F-EC32-43DD-81B1-0D07411B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8CB-59DA-4DB8-8E9A-902CCCB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652-D755-4A8C-BD4E-A8FA2B1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93D-0202-4F05-859D-9823106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5F1-28E1-434F-9735-5FE0DDD2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C1F-45F1-4E8E-B1AC-2AC06B1B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6498-8552-46D3-9371-F614AACE1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示 3" descr=""/>
          <p:cNvPicPr/>
          <p:nvPr/>
        </p:nvPicPr>
        <p:blipFill>
          <a:blip r:embed="rId1"/>
          <a:stretch/>
        </p:blipFill>
        <p:spPr>
          <a:xfrm>
            <a:off x="378000" y="2152800"/>
            <a:ext cx="83880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矩形 34" descr=""/>
          <p:cNvPicPr/>
          <p:nvPr/>
        </p:nvPicPr>
        <p:blipFill>
          <a:blip r:embed="rId1"/>
          <a:stretch/>
        </p:blipFill>
        <p:spPr>
          <a:xfrm>
            <a:off x="749160" y="1195560"/>
            <a:ext cx="76694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4"/>
          <p:cNvSpPr/>
          <p:nvPr/>
        </p:nvSpPr>
        <p:spPr>
          <a:xfrm>
            <a:off x="826920" y="1197000"/>
            <a:ext cx="78440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宋体"/>
              </a:rPr>
              <a:t>练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们怎能忘记老师的淳淳教导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里的景色这么美，怎能不使我们流连往返呢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点小事，难道还要妈妈担心吗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千世界，哪里没有野花的倩影呢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4"/>
          <p:cNvSpPr/>
          <p:nvPr/>
        </p:nvSpPr>
        <p:spPr>
          <a:xfrm>
            <a:off x="826920" y="1197000"/>
            <a:ext cx="7844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二） 陈述句变反问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第一步与第三步正好相反，第二步一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加上反问词（怎能、怎么、难道、哪里等等），有的句子可适当删去“很”“都”等，使句子表达的意思更准确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看句子里的有没有否定词“不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注意：是作谓语的词）有的给删去，没有的给加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删去“。”变“？”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4"/>
          <p:cNvSpPr/>
          <p:nvPr/>
        </p:nvSpPr>
        <p:spPr>
          <a:xfrm>
            <a:off x="826920" y="1197000"/>
            <a:ext cx="78440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宋体"/>
              </a:rPr>
              <a:t>练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们不能因为学习任务重而不参加体育活动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幅画是我们班彩颖画的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父母含辛茹苦地把我们养大，我们不应该伤他们的心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对少数同学不守纪律的现象，我们不能不闻不问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34" descr=""/>
          <p:cNvPicPr/>
          <p:nvPr/>
        </p:nvPicPr>
        <p:blipFill>
          <a:blip r:embed="rId1"/>
          <a:stretch/>
        </p:blipFill>
        <p:spPr>
          <a:xfrm>
            <a:off x="749160" y="1195560"/>
            <a:ext cx="79185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34"/>
          <p:cNvSpPr/>
          <p:nvPr/>
        </p:nvSpPr>
        <p:spPr>
          <a:xfrm>
            <a:off x="826920" y="1197000"/>
            <a:ext cx="78440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转述句变为直述句（所有步骤刚好相反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：雨来摇摇头说，他在屋里什么也没看见。（转述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雨来摇摇头说：‘我在屋子里什么也没看见。”（直述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宋体"/>
              </a:rPr>
              <a:t>练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周瑜长叹一声，说：“诸葛亮神机妙算，我真不如他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＿＿＿＿＿＿＿＿＿＿＿＿＿＿＿＿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妈妈严肃地对我说，马上就要期末考试了，我一定要认真复习，不要辜负老师和她对我的一片期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＿＿＿＿＿＿＿＿＿＿＿＿＿＿＿＿＿＿＿＿＿＿＿＿＿＿＿＿＿＿＿＿＿＿＿＿＿＿＿＿＿＿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4" descr=""/>
          <p:cNvPicPr/>
          <p:nvPr/>
        </p:nvPicPr>
        <p:blipFill>
          <a:blip r:embed="rId1"/>
          <a:stretch/>
        </p:blipFill>
        <p:spPr>
          <a:xfrm>
            <a:off x="749160" y="1195560"/>
            <a:ext cx="82296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8:44:14Z</dcterms:created>
  <dc:creator>荣德基; Administrator</dc:creator>
  <dc:description/>
  <dc:language>en-US</dc:language>
  <cp:lastModifiedBy>Administrator</cp:lastModifiedBy>
  <dcterms:modified xsi:type="dcterms:W3CDTF">2017-11-30T15:37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